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9DA-591A-412A-88B7-DDACEE5F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474-3F37-444F-AFFC-CED50B5B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778-C8F9-4ABC-A8EF-AEA8295B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B0C-12B1-48AD-A73B-E38F2CF7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60D-913A-4B5F-801F-1A712106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565-5010-42C6-8295-D3CE7218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DD1-2CD7-4AFE-A6A5-D58686B3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A04-578F-4DF0-8BDA-8BDEBCA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E71-204F-49F0-A5F1-6486E129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F94-F79F-480C-A6CE-73671D5E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86C-7988-4AB7-9916-A72C066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380-5A60-4B3B-B014-CD58B06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995-AD85-4AFB-9F94-43CFDC1C6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abou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this task? Assessment for learning? Assessment of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provide students feedback on this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record the information you g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information you get from completing this task to inform what you do next in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47:10Z</dcterms:created>
  <dc:creator>asiily</dc:creator>
  <dc:description/>
  <dc:language>en-US</dc:language>
  <cp:lastModifiedBy>asiily</cp:lastModifiedBy>
  <dcterms:modified xsi:type="dcterms:W3CDTF">2008-08-21T14:48:21Z</dcterms:modified>
  <cp:revision>1</cp:revision>
  <dc:subject/>
  <dc:title>Think about….</dc:title>
</cp:coreProperties>
</file>